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B92-5CE3-4535-967B-1D4D042A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65E-32AC-47BB-AFF2-9C69A374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998-4488-454A-B10F-EA90588D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BD2-D1F7-4360-8DBB-55FBE3F6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DBF2-F750-43DE-B4F5-680AB5F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8FA9-4397-43F2-9C61-B6EC853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294A-AC6F-4AD6-A886-EC3482B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B21C-1B62-4D24-ABDE-63AA88A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EBA3-DE8C-4DCF-9C87-916D89B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23FC-4840-4E85-8E81-F7D5F793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B7DC-67D0-48DE-9C8B-3E0739C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651-5A75-441B-B89B-8F15E1A0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FA5-7653-4654-B7FE-8C2649C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0E1C-8938-463A-A9C9-81CE96F2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A979-9C3C-4DF3-9DC5-F363FDEC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1B2-7747-41BB-954E-00909173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B5E6-7821-4310-AF22-66D7CADA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7AE2-B4C2-4717-9BB4-1C80E845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DF47-F3B4-4E31-89C9-6B42AE9D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38E2-A2B4-4130-B8C3-C93A6A48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2CE0-C0D0-438A-85A2-D2B8F1A7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AE2E-FAB6-4B0B-8DF8-E83F4A8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C63-0122-47A5-BF13-E0A5C72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5CFD-E92E-40B3-99D2-2C51015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4CD8-B42D-4573-B245-E208A7A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0BF8-01E7-45FB-B116-19A2C53C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0FF6E-5534-4668-B0B8-4D3EE4FC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D3D4-64CA-4A44-819D-6A535BC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F9C7-3BF6-45BB-9F83-09624328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A224-32CB-4292-9FAD-F07BC1D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8F956-6E48-4AD9-A203-B73077AE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43088-8D16-4346-A584-9FDFC929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0CAF7-08AE-4F8D-B1B1-68FFF545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77C-4BC2-4748-9DD4-DB8E4722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19BDD-3C62-44B3-A33A-2E35AD8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E088-7459-4C3F-8892-13F771B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51A0-4A47-4590-A5D2-25707DD2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3BC4-E043-4B8E-BCB7-4AFD9D7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7C9F-2AD8-4050-8C59-24A4ABA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2AE0-DB90-46F0-947D-FB95E42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23B8-DEBD-4159-9DE6-1E932A1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69A3-52AF-4A7D-B1E2-A6AC0E4E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0804-BAA1-4C4C-9535-AE890C9C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860F0-48A4-471C-A022-F585B921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21E-0B42-4D37-8A0B-17A354C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74F9-C67A-4CE7-A2E5-79DA689D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DFAB-5A6E-45CD-A873-06DFBE5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41DD-588E-4537-A06B-995108F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D252-6357-4805-B290-97F7FE3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2941-4C7B-43DD-8A17-BFED4F5B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38C9-5F51-42A6-88B7-935CC3F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34F01-010B-40D7-89F0-5CEBB1C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157B-CA3A-43A0-83AF-625D5055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C8DE-C20F-4A8D-A71F-CDA614CD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883D-AF6A-45D3-A289-70758BC6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C92-DA08-4F2B-A971-3853127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FF45D-41FC-4325-90EF-F8BA628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5310-7519-4A30-96FC-F34559AD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8684-E5DB-4B76-A7F9-D3E275EC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6A353-87D3-4710-975F-23AB9F83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5845-DEEE-4D8A-9329-27113ED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FAF0-AB50-45CF-843C-ACAD5A69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9E8EB-3AE4-494E-9120-D5962C7C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FF2D-203F-4DEE-92B7-AB947DF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30D0A-AC4A-41FD-961C-A96AFA95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A6F1-A30F-4D08-A8D8-958B441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F67-1979-4AC8-BBF0-E01CA29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63CE-2172-4FD9-B7DC-CB5ACB0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EDBD-90AF-4B17-8DC8-220B8B1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7B21-16CB-41D1-A30A-ADA56A57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8E70-0340-40EB-A565-9E42CFB9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B5BC-8451-40A6-B380-E3AAACCB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A68F-90BF-4B0B-8F6B-B4AE220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A63D-3A57-4B5E-B83A-4529CBE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647A-CD70-4A02-B509-5A19533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5078-F146-422B-8F45-309F7AD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C2A0-0F7A-4BF3-9ABC-6A1FD8C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2C1-E3AB-4BA8-8799-A596CFB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E62E-FCC1-4DAC-990E-8138F4A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FD9E0-314C-4599-BAD3-05C1BAF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22556-62FE-4191-8E21-5E950A3A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F266A-12E3-4099-847A-8E23A7FB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F1C6F-23FC-48C6-9FCE-D6C115D9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303-8971-4768-8780-68733D4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11B-D6BA-4A52-8122-479AE7FB058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003-764D-49CB-9729-B6E86B2844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C9A6-7A21-44F5-8012-AEB2C20A065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63B-3BE4-4E39-B6E1-0B71FDFE1BF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AE1-834B-40A0-9D15-328E0C950D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A3A-C66D-491D-BAB1-9CA96BB6C22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36D-D0B1-49A8-BFB1-BBEBF7E4E66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-146160" y="2670120"/>
            <a:ext cx="7150320" cy="344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6943680" y="1676520"/>
            <a:ext cx="2182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990720" y="1600200"/>
            <a:ext cx="7467480" cy="485028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My Name is Laura Henderson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 am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om – Wife – Sister – Daughter- Daughter in Law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Live in Newburyport , M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Work at Preferred Mutual Insurance Compan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oal is to graduate Cambridge College - Class of 2013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990720" y="1600200"/>
            <a:ext cx="7162560" cy="512460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I Am Passionate  Abou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riend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olunteering with a local food pantr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Helping the homeless in my communit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Organizing U.S. Navy packing events for the troops oversea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aint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ourmet Cook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152360" y="1600200"/>
            <a:ext cx="66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ere You Will Find Me at Leisur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380880" y="2387520"/>
            <a:ext cx="2746440" cy="1181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2"/>
          <a:stretch/>
        </p:blipFill>
        <p:spPr>
          <a:xfrm>
            <a:off x="6219720" y="50292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7162920" y="451476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4"/>
          <a:srcRect l="0" t="12366" r="0" b="0"/>
          <a:stretch/>
        </p:blipFill>
        <p:spPr>
          <a:xfrm>
            <a:off x="609480" y="3878280"/>
            <a:ext cx="1854360" cy="2411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5"/>
          <a:stretch/>
        </p:blipFill>
        <p:spPr>
          <a:xfrm>
            <a:off x="3243240" y="4335480"/>
            <a:ext cx="2619360" cy="1743120"/>
          </a:xfrm>
          <a:prstGeom prst="rect">
            <a:avLst/>
          </a:prstGeom>
          <a:ln w="0">
            <a:noFill/>
          </a:ln>
        </p:spPr>
      </p:pic>
      <p:grpSp>
        <p:nvGrpSpPr>
          <p:cNvPr id="345" name="TextBox 3"/>
          <p:cNvGrpSpPr/>
          <p:nvPr/>
        </p:nvGrpSpPr>
        <p:grpSpPr>
          <a:xfrm>
            <a:off x="3870360" y="6072120"/>
            <a:ext cx="1201680" cy="620640"/>
            <a:chOff x="3870360" y="6072120"/>
            <a:chExt cx="1201680" cy="620640"/>
          </a:xfrm>
        </p:grpSpPr>
        <p:pic>
          <p:nvPicPr>
            <p:cNvPr id="346" name="TextBox 3" descr=""/>
            <p:cNvPicPr/>
            <p:nvPr/>
          </p:nvPicPr>
          <p:blipFill>
            <a:blip r:embed="rId6"/>
            <a:stretch/>
          </p:blipFill>
          <p:spPr>
            <a:xfrm>
              <a:off x="3870360" y="6072120"/>
              <a:ext cx="1201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940200" y="6141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436b"/>
                  </a:solidFill>
                  <a:latin typeface="Candara"/>
                </a:rPr>
                <a:t> </a:t>
              </a:r>
              <a:r>
                <a:rPr b="1" lang="en-US" sz="1800" spc="-1" strike="noStrike">
                  <a:solidFill>
                    <a:srgbClr val="06436b"/>
                  </a:solidFill>
                  <a:latin typeface="Candara"/>
                </a:rPr>
                <a:t>MAINE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348" name="Picture 9" descr=""/>
          <p:cNvPicPr/>
          <p:nvPr/>
        </p:nvPicPr>
        <p:blipFill>
          <a:blip r:embed="rId7"/>
          <a:stretch/>
        </p:blipFill>
        <p:spPr>
          <a:xfrm>
            <a:off x="6226200" y="3008160"/>
            <a:ext cx="2157480" cy="14367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6477120" y="2666880"/>
            <a:ext cx="2438280" cy="642600"/>
          </a:xfrm>
          <a:prstGeom prst="rect">
            <a:avLst/>
          </a:prstGeom>
          <a:solidFill>
            <a:srgbClr val="5bd07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Mountain Bike Rid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0" name="Picture 13" descr=""/>
          <p:cNvPicPr/>
          <p:nvPr/>
        </p:nvPicPr>
        <p:blipFill>
          <a:blip r:embed="rId8"/>
          <a:stretch/>
        </p:blipFill>
        <p:spPr>
          <a:xfrm>
            <a:off x="3251160" y="2421000"/>
            <a:ext cx="1271520" cy="1373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7"/>
          <p:cNvSpPr/>
          <p:nvPr/>
        </p:nvSpPr>
        <p:spPr>
          <a:xfrm>
            <a:off x="3965400" y="3914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Rectangle 10" descr=""/>
          <p:cNvPicPr/>
          <p:nvPr/>
        </p:nvPicPr>
        <p:blipFill>
          <a:blip r:embed="rId9"/>
          <a:stretch/>
        </p:blipFill>
        <p:spPr>
          <a:xfrm>
            <a:off x="3157560" y="3292560"/>
            <a:ext cx="1444680" cy="560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"/>
          <p:cNvPicPr/>
          <p:nvPr/>
        </p:nvPicPr>
        <p:blipFill>
          <a:blip r:embed="rId10"/>
          <a:stretch/>
        </p:blipFill>
        <p:spPr>
          <a:xfrm>
            <a:off x="4726080" y="2627280"/>
            <a:ext cx="1136520" cy="16556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1"/>
          <p:cNvSpPr/>
          <p:nvPr/>
        </p:nvSpPr>
        <p:spPr>
          <a:xfrm rot="20277600">
            <a:off x="4782240" y="2978280"/>
            <a:ext cx="147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norkel Jamaica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5"/>
          <p:cNvSpPr/>
          <p:nvPr/>
        </p:nvSpPr>
        <p:spPr>
          <a:xfrm>
            <a:off x="914400" y="803160"/>
            <a:ext cx="7120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Most Proud Of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03360" y="3492360"/>
            <a:ext cx="3340080" cy="325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158760" y="1073160"/>
            <a:ext cx="2803680" cy="2004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534000" y="3181320"/>
            <a:ext cx="2702160" cy="3878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4"/>
          <a:stretch/>
        </p:blipFill>
        <p:spPr>
          <a:xfrm>
            <a:off x="7007400" y="1730520"/>
            <a:ext cx="1904760" cy="1557360"/>
          </a:xfrm>
          <a:prstGeom prst="rect">
            <a:avLst/>
          </a:prstGeom>
          <a:ln w="57240">
            <a:solidFill>
              <a:srgbClr val="ffd54f"/>
            </a:solidFill>
            <a:miter/>
          </a:ln>
        </p:spPr>
      </p:pic>
      <p:sp>
        <p:nvSpPr>
          <p:cNvPr id="360" name="TextBox 7"/>
          <p:cNvSpPr/>
          <p:nvPr/>
        </p:nvSpPr>
        <p:spPr>
          <a:xfrm>
            <a:off x="2937960" y="1730520"/>
            <a:ext cx="387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N Matthew Henders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U.S. Navy Hospital Corpsma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Patuxent River Naval Air Stati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Naval Health Clinic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Patuxent River, MD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5"/>
          <a:stretch/>
        </p:blipFill>
        <p:spPr>
          <a:xfrm>
            <a:off x="4175280" y="3962520"/>
            <a:ext cx="17874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0:24:05Z</dcterms:created>
  <dc:creator>ULJH2</dc:creator>
  <dc:description/>
  <dc:language>en-US</dc:language>
  <cp:lastModifiedBy>ULJH2</cp:lastModifiedBy>
  <dcterms:modified xsi:type="dcterms:W3CDTF">2012-03-25T02:17:49Z</dcterms:modified>
  <cp:revision>8</cp:revision>
  <dc:subject/>
  <dc:title>PowerPoint Presentation</dc:title>
</cp:coreProperties>
</file>